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8B9-4F50-4922-ABF1-5B5C783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B47-90D6-4465-8CDF-0ECDCB27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7CE-4759-4F9F-889C-558DCC1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F62-C4CD-4C17-91FC-0C3445F8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80C-D503-4FDA-BD23-2870CA1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CEE-2FD0-470C-B1B1-7512968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E47-6754-409F-8790-A24F39B5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9B4-3273-43A1-9785-819DA58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70F-AE48-42FF-95BA-12FD5AF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A67-8224-4EDF-AA66-BD5B9DE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113-9D1E-467D-850A-74EB445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308-39C2-41CD-9BDE-2938F3B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5B0F-166A-445C-9704-6AB4DEC6B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based developmental reading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u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dven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lo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’s what it is all about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Componen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and Post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Oral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is on Vocabulary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—Ant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M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 J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tar P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 Development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Oral Reading: Students reading a novel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word Puzz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ze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22:03:44Z</dcterms:created>
  <dc:creator>anderak</dc:creator>
  <dc:description/>
  <dc:language>en-US</dc:language>
  <cp:lastModifiedBy>CSD</cp:lastModifiedBy>
  <dcterms:modified xsi:type="dcterms:W3CDTF">2009-10-02T00:54:39Z</dcterms:modified>
  <cp:revision>7</cp:revision>
  <dc:subject/>
  <dc:title>FAME</dc:title>
</cp:coreProperties>
</file>